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4797-3DDC-4F83-8D0C-AE66B48D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5D2-46A4-41D3-8CC0-74876401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F069-52F2-4C4D-9AF6-13F04527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792F-A43E-431F-A185-FF4A9734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3046-AE0E-4424-A6B2-3CF11626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BBA-343F-4232-85A1-94141992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C0C-183F-4661-B9E8-0575821F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F89-B532-4E14-8EFF-8C1AA702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CB7-8B73-4C5D-9778-0796AD18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D61-CCE9-4C7C-AF9C-556F0DC3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843-F29A-4D1E-B1A9-DB1DB207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29AE-CFB0-4BF7-A6F4-2AE88824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25ED-6585-4EA6-B234-182305777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50states.com/oklahoma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hyperlink" Target="http://bensguide.gpo.gov/3-5/state/oklahoma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ostcardsfrom.com/t1/981130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postcardsfrom.com/stamp/stamp-ok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990720"/>
            <a:ext cx="67057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3366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klahoma</a:t>
            </a:r>
            <a:endParaRPr b="0" lang="en-US" sz="1800" spc="1" strike="noStrike">
              <a:ln w="38160">
                <a:solidFill>
                  <a:srgbClr val="993366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181480" y="419112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4343400"/>
            <a:ext cx="3276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de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ptember 20, 20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: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#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48520" y="380880"/>
            <a:ext cx="18288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 States,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Alaba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o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10/7/2010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50states.com/oklahoma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5185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Name: Oklaho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: Oklahoma 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3,450,65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the Union: 4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ovember 16,192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: Labor Omnia Vinc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name: Sooner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: Mistleto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: Redbu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g: Oklaho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behind name: “Red People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Oklahoma: Map and State Flag"/>
          <p:cNvPicPr/>
          <p:nvPr/>
        </p:nvPicPr>
        <p:blipFill>
          <a:blip r:embed="rId1"/>
          <a:srcRect l="8436" t="0" r="11541" b="58638"/>
          <a:stretch/>
        </p:blipFill>
        <p:spPr>
          <a:xfrm>
            <a:off x="1447920" y="685800"/>
            <a:ext cx="289548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Oklahoma: Map and State Flag"/>
          <p:cNvPicPr/>
          <p:nvPr/>
        </p:nvPicPr>
        <p:blipFill>
          <a:blip r:embed="rId2"/>
          <a:srcRect l="0" t="56088" r="0" b="1370"/>
          <a:stretch/>
        </p:blipFill>
        <p:spPr>
          <a:xfrm>
            <a:off x="4572000" y="685800"/>
            <a:ext cx="4095720" cy="2362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8080" y="4151160"/>
            <a:ext cx="66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.S Government for Ki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 Oklaho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2 September 201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oklahoma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7712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Oklaho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ff7c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451240" y="1623960"/>
          <a:ext cx="3857400" cy="517680"/>
        </p:xfrm>
        <a:graphic>
          <a:graphicData uri="http://schemas.openxmlformats.org/drawingml/2006/table">
            <a:tbl>
              <a:tblPr/>
              <a:tblGrid>
                <a:gridCol w="385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2451240" y="2141640"/>
          <a:ext cx="3857400" cy="3030480"/>
        </p:xfrm>
        <a:graphic>
          <a:graphicData uri="http://schemas.openxmlformats.org/drawingml/2006/table">
            <a:tbl>
              <a:tblPr/>
              <a:tblGrid>
                <a:gridCol w="3857400"/>
              </a:tblGrid>
              <a:tr h="31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700"/>
                      </a:br>
                      <a:r>
                        <a:rPr b="1" lang="en-US" sz="7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72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7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All images Copyright © 1997 - 2000 WriteLine. All Rights Reserved. Oil Derrick and Capitol"/>
          <p:cNvPicPr/>
          <p:nvPr/>
        </p:nvPicPr>
        <p:blipFill>
          <a:blip r:embed="rId1"/>
          <a:srcRect l="33642" t="0" r="0" b="0"/>
          <a:stretch/>
        </p:blipFill>
        <p:spPr>
          <a:xfrm>
            <a:off x="2286000" y="228600"/>
            <a:ext cx="4800600" cy="441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506556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klahoma City, OK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3 Semptember 20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81130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-457200" y="189000"/>
            <a:ext cx="365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91080" y="264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895480" y="-14630400"/>
          <a:ext cx="182520" cy="364377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3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cc0000"/>
                          </a:solidFill>
                          <a:latin typeface="Georgia"/>
                        </a:rPr>
                        <a:t>Oklahoma State Stam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0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0505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3800" spc="-1" strike="noStrike">
                          <a:solidFill>
                            <a:srgbClr val="50505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505050"/>
                          </a:solidFill>
                          <a:latin typeface="Verdana"/>
                        </a:rPr>
                        <a:t>                                        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505050"/>
                          </a:solidFill>
                          <a:latin typeface="Verdana"/>
                        </a:rPr>
                        <a:t>State Flower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Georgia"/>
                        </a:rPr>
                        <a:t>Mistleto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700"/>
                      </a:b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50505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9800" spc="-1" strike="noStrike">
                          <a:solidFill>
                            <a:srgbClr val="50505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505050"/>
                          </a:solidFill>
                          <a:latin typeface="Verdana"/>
                        </a:rPr>
                        <a:t>                                            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505050"/>
                          </a:solidFill>
                          <a:latin typeface="Verdana"/>
                        </a:rPr>
                        <a:t>State Bird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Georgia"/>
                        </a:rPr>
                        <a:t>Scissor-tailed Flycat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700"/>
                      </a:b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Copyright © 1998 WriteLine. All Rights Reserved. Mistletoe"/>
          <p:cNvPicPr/>
          <p:nvPr/>
        </p:nvPicPr>
        <p:blipFill>
          <a:blip r:embed="rId1"/>
          <a:stretch/>
        </p:blipFill>
        <p:spPr>
          <a:xfrm>
            <a:off x="3613320" y="-9066240"/>
            <a:ext cx="185724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Copyright © 1998 WriteLine. All Rights Reserved. Scissor-tailed Flycatcher"/>
          <p:cNvPicPr/>
          <p:nvPr/>
        </p:nvPicPr>
        <p:blipFill>
          <a:blip r:embed="rId2"/>
          <a:stretch/>
        </p:blipFill>
        <p:spPr>
          <a:xfrm>
            <a:off x="5257800" y="152280"/>
            <a:ext cx="2971800" cy="4648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71400" y="341280"/>
            <a:ext cx="22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Oklahoma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Bird: Its re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cinati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506556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klahoma State Stam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3 September 20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ostcardsfrom.com/stamp/stamp-ok.html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37Z</dcterms:created>
  <dc:creator>install</dc:creator>
  <dc:description/>
  <dc:language>en-US</dc:language>
  <cp:lastModifiedBy>install</cp:lastModifiedBy>
  <dcterms:modified xsi:type="dcterms:W3CDTF">2010-10-14T13:19:45Z</dcterms:modified>
  <cp:revision>12</cp:revision>
  <dc:subject/>
  <dc:title>Slide 1</dc:title>
</cp:coreProperties>
</file>